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0FB-63AC-447E-B26A-E37E101B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754-A733-4BC4-BAAB-3E34FB3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68E-DE14-4C20-83DC-607C2109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852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508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852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798-52EC-4896-A64F-CE1A8DB6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D70-481E-4DA8-ABFA-C6581105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ABB6-13A4-497C-947A-68DF896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CD1-D33C-475D-B513-B2F216D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6D28-C7EF-4B01-BDF7-90629A96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BB0-52A5-49F7-B44C-FD5ADCD6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6520" y="61920"/>
            <a:ext cx="87472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81A0-AF0B-42E8-ACF7-CAF1CFC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085-8A1F-42C8-8A95-7E705B3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507-2825-49F0-805A-F86A50B2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EE4B-60AC-46DE-962E-D93A384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931E-8F90-43D9-9FCB-6AF7DBD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DD5-B9C6-4E70-86B1-250826CF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9D4-9CBC-4805-A3CE-570281EE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852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1600" y="113184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3508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852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1600" y="3875760"/>
            <a:ext cx="2812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B0D-2758-42A8-B281-807B83D1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510-CCC8-4B82-913D-565B725B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F04-0C57-4CEC-A35A-D1DD116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154-0405-4FFE-8EAD-D1BE0E5E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520" y="61920"/>
            <a:ext cx="87472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2E6-1AE7-4FE7-8DB7-B3A6AC0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8B6-8BA0-4C38-B7E1-4A2C7F3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0600" y="387576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0B3-8186-4A40-8151-FF7FFDD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600" y="1131840"/>
            <a:ext cx="426204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5080" y="3875760"/>
            <a:ext cx="8734320" cy="25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D79-4D9B-474A-927A-A421B30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520" y="61920"/>
            <a:ext cx="874728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880" y="6327720"/>
            <a:ext cx="2468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080-723D-454A-BD29-2534456F89AD}" type="datetime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7000" y="6327720"/>
            <a:ext cx="3057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50040" y="6327720"/>
            <a:ext cx="16336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D9B8-4504-4F39-9A52-F78E3EE64534}" type="slidenum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39127"/>
              </a:gs>
              <a:gs pos="100000">
                <a:srgbClr val="feff3f"/>
              </a:gs>
            </a:gsLst>
            <a:lin ang="8100000"/>
          </a:gradFill>
          <a:ln w="9360">
            <a:solidFill>
              <a:srgbClr val="dd4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1908000"/>
            <a:ext cx="7497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64880" y="6327720"/>
            <a:ext cx="24685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DCC9-E61D-4F17-88A7-9B562ECD3950}" type="datetime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97000" y="6327720"/>
            <a:ext cx="30574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50040" y="6327720"/>
            <a:ext cx="16336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4100"/>
                </a:solidFill>
                <a:latin typeface="georgia"/>
                <a:ea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292D-B801-4A08-B79A-10993CC667C4}" type="slidenum">
              <a:rPr b="0" lang="en-US" sz="1400" spc="-1" strike="noStrike">
                <a:solidFill>
                  <a:srgbClr val="714100"/>
                </a:solidFill>
                <a:latin typeface="georgia"/>
                <a:ea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f3f"/>
              </a:gs>
              <a:gs pos="100000">
                <a:srgbClr val="f39127"/>
              </a:gs>
            </a:gsLst>
            <a:lin ang="5400000"/>
          </a:gradFill>
          <a:ln w="9360">
            <a:solidFill>
              <a:srgbClr val="dd4a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jacobs7@schools.nyc.gov" TargetMode="External"/><Relationship Id="rId3" Type="http://schemas.openxmlformats.org/officeDocument/2006/relationships/hyperlink" Target="mailto:mjacobs7@schools.nyc.gov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oicethread.com/share/1700052/" TargetMode="External"/><Relationship Id="rId2" Type="http://schemas.openxmlformats.org/officeDocument/2006/relationships/hyperlink" Target="http://voicethread.com/share/1700084/" TargetMode="External"/><Relationship Id="rId3" Type="http://schemas.openxmlformats.org/officeDocument/2006/relationships/hyperlink" Target="http://voicethread.com/share/1717824/" TargetMode="External"/><Relationship Id="rId4" Type="http://schemas.openxmlformats.org/officeDocument/2006/relationships/hyperlink" Target="http://voicethread.com/share/1717824/" TargetMode="External"/><Relationship Id="rId5" Type="http://schemas.openxmlformats.org/officeDocument/2006/relationships/hyperlink" Target="http://voicethread.com/share/1717824/" TargetMode="External"/><Relationship Id="rId6" Type="http://schemas.openxmlformats.org/officeDocument/2006/relationships/hyperlink" Target="http://voicethread.com/shar/1702657/" TargetMode="External"/><Relationship Id="rId7" Type="http://schemas.openxmlformats.org/officeDocument/2006/relationships/hyperlink" Target="http://voicethread.com/shar/1702657/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livebinders.com/play/play_shared_binder?id=57806" TargetMode="External"/><Relationship Id="rId3" Type="http://schemas.openxmlformats.org/officeDocument/2006/relationships/hyperlink" Target="http://livebinders.com/play/play_or_edit?id=43435" TargetMode="External"/><Relationship Id="rId4" Type="http://schemas.openxmlformats.org/officeDocument/2006/relationships/hyperlink" Target="http://livebinders.com/edit?id=32116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storybird.com/books/about-us-a-peek-inside-storybird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en.childrenslibrary.org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polleverywhere.com/multiple_choice_polls/ODg2MjU2MjQ3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la.org/ala/mgrps/divs/aasl/guidelinesandstandards/bestlist/bestwebsites.cf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s://spreadsheets.google.com/viewform?formkey=dHh0NXptVmU5QXJ0RUJfUFNnc0xLbFE6MQ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rome.glogster.com/glog-4530-9227/" TargetMode="External"/><Relationship Id="rId3" Type="http://schemas.openxmlformats.org/officeDocument/2006/relationships/hyperlink" Target="http://missbell.edu.glogster.com/georgia-okeffee-collaborative-project/" TargetMode="External"/><Relationship Id="rId4" Type="http://schemas.openxmlformats.org/officeDocument/2006/relationships/hyperlink" Target="http://newyorkersread.wikispaces.com/Glogster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prezi.com/s_uvgqkzeece/top-25-websites-for-teaching-and-learning/" TargetMode="External"/><Relationship Id="rId3" Type="http://schemas.openxmlformats.org/officeDocument/2006/relationships/hyperlink" Target="http://prezi.com/-chapaq38ync/neurofibromatosis-type-1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rofessorgarfield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9360" y="3392280"/>
            <a:ext cx="70804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2360" y="2239920"/>
            <a:ext cx="3002040" cy="4168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79520" y="279360"/>
            <a:ext cx="749772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georgia"/>
              </a:rPr>
              <a:t>AASL Best Websites for Teaching and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558960" y="2338560"/>
            <a:ext cx="51210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elissa Jacobs 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ordinator, Libra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NYC Department of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New Yo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rk,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mjacobs7@schools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georgia"/>
              </a:rPr>
              <a:t>nyc.go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520" y="61920"/>
            <a:ext cx="874728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Readings with Voiceth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60" y="1017720"/>
            <a:ext cx="837576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ise Fleming books: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voicethread.com/share/1700052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voicethread.com/share/1700084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http://voicethread.com/share/1717824/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imals save the world (Gerald McDermott author/illustrator study)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http://voicethread.com/share/1717824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o Lionni: The Dragon and the Snak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7"/>
              </a:rPr>
              <a:t>http://voicethread.com/shar/170265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4200" y="369720"/>
            <a:ext cx="8616960" cy="59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8120" y="538200"/>
            <a:ext cx="8298000" cy="58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9680" y="426960"/>
            <a:ext cx="816300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16280" y="1090440"/>
            <a:ext cx="4370400" cy="508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6520" y="61920"/>
            <a:ext cx="8747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Livebin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3680" y="2266560"/>
            <a:ext cx="482940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Primary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Professional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4"/>
              </a:rPr>
              <a:t>Internet at Sch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800" y="749160"/>
            <a:ext cx="8428320" cy="59454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6520" y="61920"/>
            <a:ext cx="8747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Tweeting is Not for the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920" y="695160"/>
            <a:ext cx="9048600" cy="546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520" y="61920"/>
            <a:ext cx="8747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Storybi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35400" y="608004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7720" y="638280"/>
            <a:ext cx="8155080" cy="4906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6440" y="5713560"/>
            <a:ext cx="851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International Children's Digital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 rot="60000">
            <a:off x="779040" y="858960"/>
            <a:ext cx="7642440" cy="5646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" y="177840"/>
            <a:ext cx="809136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Poll Everyone with Poll Every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43000" y="619452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P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9360" y="3392280"/>
            <a:ext cx="708048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73160" y="652320"/>
            <a:ext cx="743580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georgia"/>
              </a:rPr>
              <a:t>Do you know a good Web 2.0 too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87280" y="2879640"/>
            <a:ext cx="69012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Nominate a site for next year's list at http://www.ala.org/ala/mgrps/divs/aasl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guidelinesandstandard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bestlist/bestwebsitesnomination.cf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2720" y="1363680"/>
            <a:ext cx="7954920" cy="4629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6520" y="61920"/>
            <a:ext cx="87472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AASL Best Websites for Teaching and Learning Webs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40" y="6146640"/>
            <a:ext cx="626760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http://www.ala.org/ala/mgrps/divs/aasl/guidelinesandstandards/bestlist/bestwebsites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5000" y="392040"/>
            <a:ext cx="7504200" cy="4929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46320" y="5499000"/>
            <a:ext cx="70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 Web 2.0 Melange of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http://bit.ly/webmelangeof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17960" y="1068480"/>
            <a:ext cx="3902040" cy="5343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520" y="61920"/>
            <a:ext cx="874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Our Selection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137960"/>
            <a:ext cx="494064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foster qualities of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are free web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encourage 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engage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support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are user frien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georgia"/>
              </a:rPr>
              <a:t>provide a foundation to support 21st-century teaching and lear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240" y="158760"/>
            <a:ext cx="8746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Categories of Web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040" y="1106280"/>
            <a:ext cx="9482400" cy="90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edia Sh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Digital Storytel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Manage and Organ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Social Networking and Commun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urriculum Sha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ntent Resources: Lesson Plans and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georgia"/>
              </a:rPr>
              <a:t>Content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2280" y="2050920"/>
            <a:ext cx="8345520" cy="443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98440" y="219240"/>
            <a:ext cx="87472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Student Projects with Glogs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40080" y="2417760"/>
            <a:ext cx="43610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Neela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Collages of works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4"/>
              </a:rPr>
              <a:t>New Yorkers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63720" y="669960"/>
            <a:ext cx="7765920" cy="4422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520" y="61920"/>
            <a:ext cx="8747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Prez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5057280"/>
            <a:ext cx="873432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AASL Best Website Pre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3"/>
              </a:rPr>
              <a:t>Neurofibro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5880" y="177840"/>
            <a:ext cx="8074080" cy="569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3920" y="6035760"/>
            <a:ext cx="8483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georgia"/>
                <a:ea typeface="georgia"/>
                <a:hlinkClick r:id="rId2"/>
              </a:rPr>
              <a:t>21st Century Learning with Professor Garfi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47640"/>
            <a:ext cx="9048600" cy="5559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520" y="61920"/>
            <a:ext cx="87472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  <a:ea typeface="georgia"/>
              </a:rPr>
              <a:t>Collaborate with Voicethre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5080" y="1131840"/>
            <a:ext cx="873432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Web 2.0 - Exploratorium</dc:title>
</cp:coreProperties>
</file>